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C1A4-8042-4DF5-8043-D2D2407A9E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EB81-30F7-4924-B956-1479989B44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B567-71E5-4AF4-93FB-4101A19A9E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3890-F778-4190-9A97-BB2913DFE4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DCF-DF30-4AF9-BBA9-E08AB8A963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0F2B-7211-41A2-91FD-234E875EB3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00E4-0ED9-4646-8F33-319439D0F3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4F9D-68EE-460A-95D9-15A9157CE8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ECA4-93F6-4C70-8C81-10FF8FA266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016D-62B6-417C-AE05-2771E29CD3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4F87-46A9-4A5C-B740-606ECDE2AD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136D-9CCB-46C8-8CDD-1E1CC62F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9DE-1FD5-48D6-8978-E7A51E4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295-F264-4C51-97C2-95D0B15C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F77-8AE1-43C2-B07E-D05185DF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5BC-9D00-4B74-BCDD-FD3CC46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805-7AD5-4B85-824A-D5335848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896-9F78-4DF2-8C1B-8078D972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31A-49BC-4AE5-8081-E6214946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B56-4892-4AFC-B5B5-D7C8E869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3EC5-5276-4E46-BDD5-7774EE69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06B-0491-4CDC-AC98-3C94117F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412-FF32-4F92-B5D6-3AC4DEED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56AD-9F06-495E-83D7-D0A8798666D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8320" y="47628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227640" y="5060880"/>
            <a:ext cx="27306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101520" y="51228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35000" y="1160640"/>
            <a:ext cx="22654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6948360" y="2274840"/>
            <a:ext cx="1719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114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26920" y="1971720"/>
            <a:ext cx="21272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4292280"/>
            <a:ext cx="4244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246720" y="2205000"/>
            <a:ext cx="2549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2965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4284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5T09:10:26Z</dcterms:modified>
  <cp:revision>37</cp:revision>
  <dc:subject/>
  <dc:title>People who change the world</dc:title>
</cp:coreProperties>
</file>